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09E-22AB-42FB-8929-224D1FD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396-9DDA-437D-A305-E56C1DF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29E-87F4-43A6-BC96-8D764BF0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5AD-3C1C-44C2-A03B-9DA8193F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964-3CCF-487C-A812-1D799536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042-977E-42C7-B2A8-8C12D90B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C390-C4AC-4634-B55A-90C9F2A8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A9C4-EAC4-4CB4-A987-30EAC01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AA5-49BC-4B18-92CE-15A4DFE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DCAC-5567-4153-B6EF-006B4DD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B8B7-0E44-493D-9DA6-7B61BE9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46E-5912-4104-A460-920B05D7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9901-5A1F-41A8-839C-87B7BAC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51E-BD0D-4415-A315-3D5AEA12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D59-CD68-4E48-A1D5-2325ACF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7884-E439-4FF1-9D0A-37C24FE5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D83F-5D72-4AA7-B338-C17F6C58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C6F-8435-44E1-A9AD-AC923DCB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A94-ACC8-4597-819C-5F80409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5DE-5A3A-4218-AA65-DE9CBE48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3F0-5EEA-4455-8FCD-491E721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DF3-D6A6-44B6-95F0-4E15DCB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554-BB2A-4972-8837-F8560B6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583-2A1B-48EE-B56C-76232E4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409D-108A-47E0-ADD6-4F755D4C8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E81-7E75-41FE-B6AC-AF107B2DF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inchill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ina Du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DD1-6AE4-488C-A81B-7C6CBC134B02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be informed about the Chinchilla; in example they will be informed about their habitat and what they eat. They will be informed of how they act and what you should watch out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hey 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’re ha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they l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hey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’re common health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up flyers so that people will see that my movie can be seen. Advertise on TV and on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it informs people about pets that aren’t as popular as dogs and cats, but they make good p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7:44Z</dcterms:created>
  <dc:creator/>
  <dc:description/>
  <dc:language>en-US</dc:language>
  <cp:lastModifiedBy>City School</cp:lastModifiedBy>
  <dcterms:modified xsi:type="dcterms:W3CDTF">2013-02-20T19:16:14Z</dcterms:modified>
  <cp:revision>39</cp:revision>
  <dc:subject/>
  <dc:title>The Pitch-Then-Plan Business Planning Template</dc:title>
</cp:coreProperties>
</file>